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rrow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STRY RESOURCE 9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.ALI. BLL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84148-2378-4E5F-B3C3-4EA9DB13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S &amp;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UTION OF SODIUM CHLORIDE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ATED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HAMMAD 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: a homogeneous mixture containing particles the size of a typical ion or covalent molecule. (0.1–2.0 nm in diame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oid: a homogeneous mixture containing particles with diameters in the range 2–500 n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spensions are mixtures with even larger particles, but they are not considered true solutions because they separate upon sta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e: the dissolved substance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vent: the major component in a 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olution is saturated when no additional solute can be dissolved at a particular tempera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persaturated solution can form when more than the equilibrium amount of solute is dissolved at an elevated temperature, and then the supersaturated solution is slowly cool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Unsaturated solution is formed when more of the solute can dissolve in it at a particular tempera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NDS OF 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mount of solute per unit solvent required to form a saturated solution is called the solute's Solu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quids are completely soluble in each other they are said to be Misc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is effected by Temperature. With increase in temperature solubility of most of the substances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gases become less soluble in water as the temperature incre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Footer Placeholder 4"/>
          <p:cNvSpPr/>
          <p:nvPr/>
        </p:nvSpPr>
        <p:spPr>
          <a:xfrm>
            <a:off x="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Header Placeholder 5"/>
          <p:cNvSpPr/>
          <p:nvPr/>
        </p:nvSpPr>
        <p:spPr>
          <a:xfrm>
            <a:off x="0" y="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UBILITY GRAPH OF SALTS IN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GRAPH OF GAS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BILITY OF COMMON ION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7B72-D49E-4EFE-90F2-F0736262A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603B-9491-4412-A41D-391FAD930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4700-1CD2-4E84-B5AE-22643E8FC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BB88-9D3C-4AA6-86DF-6E7E991C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E9641-0019-4453-9D4D-B8478D916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83453F-9D08-4B96-8BF8-5AD56042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22B3A7-4F6F-4158-A531-F39DE95E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CF1F1-FC86-47C2-82E3-E74E0AD09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81F99C-37C2-4C7F-A14E-71971E5FE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17F0D7-3A5E-4522-A936-565D16F9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8D0DC-07CF-42C0-9347-51DB9383E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D6B71-BAD9-49DE-9789-A08B923B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E7D06-EA96-4EC3-BC4E-0908A652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A7B2C-1B3A-47FB-BF55-B0FC5FB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A1D370-E25E-4BFB-BA0B-E1F6E5E6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213148-C198-40DF-B369-A3DDC6943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2D54C6-5B74-4147-9818-4F6E7A98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D324-FE77-4CDA-BB5C-D2B757F6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4706-8173-44D7-84E2-031E5E08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C78C-1606-4423-A1AA-E9200ED6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7F1C-256F-47D4-BF39-B03B48EB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F12A-94D3-4185-A8F1-F6BD7D6F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215-1FF1-4A7D-92A2-CA41B8B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10F-423D-4A25-8499-A28A3DAA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5D146-B434-4BA5-B7B4-B0411D8DF9B5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AA6D-DEFB-4265-9740-9563F83050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634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a3d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763FD-D1A4-4FE2-88E8-A186C148A27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42260-BCFF-4A40-9222-7AB433F3725F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arrow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arrow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OLUTIONS &amp; SOLUBILITIES</a:t>
            </a:r>
            <a:endParaRPr b="0" lang="en-US" sz="40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600200" y="6118920"/>
            <a:ext cx="6400800" cy="1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870C-64BB-45BD-9FA7-D654E4CD992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4" descr="-1-5-"/>
          <p:cNvPicPr/>
          <p:nvPr/>
        </p:nvPicPr>
        <p:blipFill>
          <a:blip r:embed="rId1"/>
          <a:srcRect l="0" t="9828" r="0" b="0"/>
          <a:stretch/>
        </p:blipFill>
        <p:spPr>
          <a:xfrm>
            <a:off x="1600200" y="1143000"/>
            <a:ext cx="6161040" cy="504036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28680"/>
            <a:ext cx="8229600" cy="9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DISSOLUTION OF SODIUM CHLORIDE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82AC-C92B-4985-960B-9C643BCA26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DONATED 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MUHAMMAD AL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ahoma"/>
              </a:rPr>
              <a:t>To www.worldofteaching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9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200"/>
                            </p:stCondLst>
                            <p:childTnLst>
                              <p:par>
                                <p:cTn id="198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99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0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1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2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8100"/>
                            </p:stCondLst>
                            <p:childTnLst>
                              <p:par>
                                <p:cTn id="204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06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08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210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212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14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216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17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219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0" dur="20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4800"/>
                            </p:stCondLst>
                            <p:childTnLst>
                              <p:par>
                                <p:cTn id="222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223" dur="2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27D51-173F-4261-B2FA-6F6D8A7078C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TERMS 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ion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the size of a typical ion or covalent molecule. (0.1–2.0 nm in diamete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Colloid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 homogeneous mixture containing particles with diameters in the range 2–500 n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uspensions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are mixtures with even larger particles, but they are not considered true solutions because they separate upon stand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ute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dissolved substance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Tahoma"/>
              </a:rPr>
              <a:t>Solvent:</a:t>
            </a:r>
            <a:r>
              <a:rPr b="0" lang="en-US" sz="2400" spc="-1" strike="noStrike">
                <a:solidFill>
                  <a:srgbClr val="ff33cc"/>
                </a:solidFill>
                <a:latin typeface="Tahoma"/>
              </a:rPr>
              <a:t> the major component in a solu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768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768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" dur="768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9672-9C69-433C-B038-BFB0B84E119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360" y="990360"/>
            <a:ext cx="89154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solution i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when no additional solute can be dissolved at a particular temperatur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upersaturated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tion can form when more than the equilibrium amount of solute is dissolved at an elevated temperature, and then the supersaturated solution is slowly cool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An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Unsaturated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solution is formed when more of the solute can dissolve in it at a particular temperatu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d"/>
    <p:sndAc>
      <p:stSnd>
        <p:snd r:embed="rId1" name="arrow.wav"/>
      </p:stSnd>
    </p:sndAc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EB9F4-CE88-46EE-865E-EA67DD3F37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KINDS OF SOLUTIONS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02" name="Picture 4" descr="table11_1"/>
          <p:cNvPicPr/>
          <p:nvPr/>
        </p:nvPicPr>
        <p:blipFill>
          <a:blip r:embed="rId1"/>
          <a:srcRect l="0" t="12549" r="0" b="0"/>
          <a:stretch/>
        </p:blipFill>
        <p:spPr>
          <a:xfrm>
            <a:off x="228600" y="1447920"/>
            <a:ext cx="8915400" cy="472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768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768" fill="hold"/>
                                        <p:tgtEl>
                                          <p:spTgt spid="10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7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8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9" dur="768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0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E7CE-7C5D-453E-B2E6-B8794F07CD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graphicFrame>
        <p:nvGraphicFramePr>
          <p:cNvPr id="106" name="Object 3"/>
          <p:cNvGraphicFramePr/>
          <p:nvPr/>
        </p:nvGraphicFramePr>
        <p:xfrm>
          <a:off x="380880" y="304920"/>
          <a:ext cx="8458200" cy="579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04920"/>
                    <a:ext cx="8458200" cy="57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342A4-8DDF-4C7A-9C56-8892A7D6CE7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5d1d7"/>
                </a:solidFill>
                <a:latin typeface="Tahoma"/>
              </a:rPr>
              <a:t>SOLUBILITY</a:t>
            </a:r>
            <a:endParaRPr b="0" lang="en-US" sz="4400" spc="-1" strike="noStrike">
              <a:solidFill>
                <a:srgbClr val="c5d1d7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The amount of solute per unit solvent required to form a saturated solution is called the solute's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Solu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When two liquids are completely soluble in each other they are said to be </a:t>
            </a:r>
            <a:r>
              <a:rPr b="1" lang="en-US" sz="3200" spc="-1" strike="noStrike">
                <a:solidFill>
                  <a:srgbClr val="ff33cc"/>
                </a:solidFill>
                <a:latin typeface="Tahoma"/>
              </a:rPr>
              <a:t>Miscible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Solubility is effected by Temperature. With increase in temperature solubility of most of the substances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a3d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33cc"/>
                </a:solidFill>
                <a:latin typeface="Tahoma"/>
              </a:rPr>
              <a:t>Most gases become less soluble in water as the temperature increase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0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33FC6-9E7B-4A91-A6D3-8512A42DD8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SALT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5" name="Picture 4" descr="aabjvkya"/>
          <p:cNvPicPr/>
          <p:nvPr/>
        </p:nvPicPr>
        <p:blipFill>
          <a:blip r:embed="rId1"/>
          <a:stretch/>
        </p:blipFill>
        <p:spPr>
          <a:xfrm>
            <a:off x="914400" y="1143000"/>
            <a:ext cx="7450200" cy="507996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23AC6-132C-4D7D-A9C6-FA681C0EED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2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OLUBILITY GRAPH OF GASES IN WATER</a:t>
            </a:r>
            <a:endParaRPr b="0" lang="en-US" sz="32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19" name="Picture 4" descr="aabjvkza"/>
          <p:cNvPicPr/>
          <p:nvPr/>
        </p:nvPicPr>
        <p:blipFill>
          <a:blip r:embed="rId1"/>
          <a:stretch/>
        </p:blipFill>
        <p:spPr>
          <a:xfrm>
            <a:off x="1295280" y="1066680"/>
            <a:ext cx="6789960" cy="452592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304920" y="556272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Pressure has little effect on the solubility of liquids and solids. The solubility of gases is strongly influenced by pressure. Gases dissolve more at high pressur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LUTION AND SOLUBILITIES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D42A9-8AC9-45DD-A67B-55C97DEAE4A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SOLUBILITY OF COMMON IONS IN WATER</a:t>
            </a:r>
            <a:endParaRPr b="0" lang="en-US" sz="2800" spc="-1" strike="noStrike">
              <a:solidFill>
                <a:srgbClr val="c5d1d7"/>
              </a:solidFill>
              <a:latin typeface="Tahoma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rcRect l="0" t="4317" r="0" b="0"/>
          <a:stretch/>
        </p:blipFill>
        <p:spPr>
          <a:xfrm>
            <a:off x="457200" y="1295280"/>
            <a:ext cx="8305920" cy="4572000"/>
          </a:xfrm>
          <a:prstGeom prst="rect">
            <a:avLst/>
          </a:prstGeom>
          <a:ln w="38160">
            <a:solidFill>
              <a:srgbClr val="ff00ff"/>
            </a:solidFill>
            <a:prstDash val="lgDashDot"/>
            <a:miter/>
          </a:ln>
        </p:spPr>
      </p:pic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0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9:07:06Z</dcterms:created>
  <dc:creator>MOHAMMAD ALI</dc:creator>
  <dc:description/>
  <dc:language>en-US</dc:language>
  <cp:lastModifiedBy>RomaK</cp:lastModifiedBy>
  <dcterms:modified xsi:type="dcterms:W3CDTF">2015-09-02T06:02:49Z</dcterms:modified>
  <cp:revision>34</cp:revision>
  <dc:subject/>
  <dc:title>SOLUTIONS &amp; SOLUBILITIES</dc:title>
</cp:coreProperties>
</file>